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6.jpeg" ContentType="image/jpeg"/>
  <Override PartName="/ppt/media/image12.gif" ContentType="image/gif"/>
  <Override PartName="/ppt/media/image24.jpeg" ContentType="image/jpeg"/>
  <Override PartName="/ppt/media/image9.png" ContentType="image/png"/>
  <Override PartName="/ppt/media/image7.png" ContentType="image/pn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1.gif" ContentType="image/gif"/>
  <Override PartName="/ppt/media/image10.jpeg" ContentType="image/jpeg"/>
  <Override PartName="/ppt/media/image5.jpeg" ContentType="image/jpeg"/>
  <Override PartName="/ppt/media/image4.png" ContentType="image/png"/>
  <Override PartName="/ppt/media/image28.jpeg" ContentType="image/jpeg"/>
  <Override PartName="/ppt/media/image23.png" ContentType="image/png"/>
  <Override PartName="/ppt/media/image20.gif" ContentType="image/gif"/>
  <Override PartName="/ppt/media/image18.jpeg" ContentType="image/jpeg"/>
  <Override PartName="/ppt/media/image26.wmf" ContentType="image/x-wmf"/>
  <Override PartName="/ppt/media/image15.jpeg" ContentType="image/jpeg"/>
  <Override PartName="/ppt/media/image21.gif" ContentType="image/gif"/>
  <Override PartName="/ppt/media/image19.gif" ContentType="image/gif"/>
  <Override PartName="/ppt/media/image1.png" ContentType="image/png"/>
  <Override PartName="/ppt/media/image25.jpeg" ContentType="image/jpeg"/>
  <Override PartName="/ppt/media/image2.png" ContentType="image/png"/>
  <Override PartName="/ppt/media/image3.png" ContentType="image/png"/>
  <Override PartName="/ppt/media/image17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68A9-FE92-4861-B36C-F0C23D9A9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91CA-1B20-4CFE-8ADE-FA43E70CA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103B-3CB9-425F-9413-4E2A93545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D608-4382-46EA-B497-8E9AE4FDD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1180E-3671-40FE-9DFB-4527DF658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9B148-F520-40F6-ABE6-9CC6C9079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BBD5C-93B7-4066-8B38-19D81AD03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9A3E0-B330-4D1B-8BA5-7A35167C5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74477-00D1-41CD-BE2C-CEFCEDAA4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6727C-25B3-4C18-AB3E-788E410BF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68453-BB77-4314-AADD-CE216B63F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F343-892F-4C80-A856-6D05DD9BB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C88C8-0AFC-4608-A0C5-20088F62C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A301B-9A51-4752-BC6A-FE8FCB1F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B7EB1-E15E-4CA1-B808-FE3E49EC6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8C47B-BA9C-4468-B2F6-F31D0D2EE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6BED8-CCE2-47B1-A8C5-2F152A506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FC910-8542-4805-837F-16F1C2E26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4C160-A2DA-49FB-BEC3-70DAB5522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8C2A3-4D79-4786-A968-AB7789B5D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40CF6-A97A-4B26-B999-B1334428D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B7DE2-49C9-4FD8-8EC5-D1A94F4E2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7865-8BEC-4C21-B8EE-922A97481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ED0BE-EB78-4CAB-85A1-4CAE111C4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74A14-A485-4A15-90B0-AF49F0D75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9E62C-E02B-4913-8971-3568B68A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0CD37-4190-4048-B317-762BE338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61049-4E10-4556-8259-2514AB733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5A27F-589C-4F3D-A8D9-E430BA84B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7C904-03BB-46DD-B0AB-8F02C2550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7CA3B-0C55-4C03-A43F-6E211A5E0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9E0F0-1D4A-427F-9B65-C43EA4A00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41C7B-E826-4829-BB00-8D97C3B0A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4293-D04D-4057-98C3-53AF786BC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30B9D-B4A0-4848-95A6-79C66345A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3FE06-EF00-46E4-BEFC-7306D8329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CFC30-0E10-406C-816F-CAFB73C5E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3837A-F1E5-4BA9-98B5-1EB536D3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76E80-2584-4F09-BFB5-EF8B810B5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BACD4-B2E3-42E8-9E65-E6E296F5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9E410-EFA2-44E9-ADCE-7151B5501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B96BD-22D6-420A-8345-442EB1FC9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CD0F5-CE8A-48C8-976D-1789258D0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90B2AC-DD07-4DC6-B19E-67DDFB374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FF30-B1AE-4599-8EBA-EF2BE1312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283D3-0CD9-4D56-8A34-EB25CC07B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B059DC-C233-4480-851F-A84113C34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CAE21B-3F7A-4D0F-9F59-2843043C2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C8E72-0D2A-40C4-A354-EBDBA4F66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4EDD59-A599-4BCF-8A46-2C4EEFD35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FDB74F-1B2D-4F00-A491-FC00354EE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E4088C-1C09-4596-845F-749E790D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365BD9-4132-432E-AB88-2A47E628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0AE2EC-6BC9-4D2C-8789-9120D17CA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21DE2-38AA-41E4-9A18-A9EFFF951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2CFF-CD7F-474D-ABD2-82288379F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7CEC64-B24B-4954-89F4-90C6B801A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8CC07C-CA49-4AC7-88C6-E8BE9C589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185F4-8462-4E6E-9228-47BBFFC19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32C87E-C659-4B88-8C96-8B47DAF02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554162-D995-4911-8837-1C6F9CB71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73B97D-D4EF-494F-B644-E28B46646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E7A072-AA6D-4A37-9D54-230F365B6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CDF7B8-594A-43A1-B2F3-79D9BDC1B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C889A6-CDDB-4735-BAAE-A69ACD2F9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F6DC7B-CE16-49F8-B21D-840A2D59C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6072-C384-466C-9FB8-58BA7DBE4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D7099A-1A35-48FD-975A-9578A9A02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FA6A87-E2FD-43A4-B23B-FBB612653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0B3378-12BB-4F94-995B-932ADF83B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888353-CFFC-4BF9-A13B-5CB6D487F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D714C5-EDFA-4383-B8B2-CC89DE4D1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B835A6-967B-4D27-8561-D4F20E6E3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88561B-D57F-4DE0-81BF-C00F74EA6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4CF354-F20C-41AB-A289-7F33140F2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5B0140-BA1B-4769-9EAF-554596343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695FDA-55AD-40EF-9CF7-D859DF1C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69EF-FF3E-451A-8B23-75B3BC28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D1CF34-C8D7-4D15-9B81-DF2314A88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CCCE7D-D00A-4232-BCF4-8C018B71F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1DA6BE-269B-4F84-92E2-2FBC2AEFB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F6F016-EC31-4594-BB4B-262B9AA65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C70578-191F-4AA4-BDEA-0D5CC58E0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0F9C75-0DCC-47DC-8154-D87742F17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977649-6A69-445B-98D9-4268BE8AB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D9019A-ED15-4C9B-8CAA-7CA0972E9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7C6DD6-6B4C-4FC9-A8C4-C262F12E0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0F9CCE-9248-4D75-9285-446F67041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4D94-54E2-4C08-BB43-EE996113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BD90EA-4BE7-410D-BDFC-EB02C03C3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1CC4E3-AB1A-4333-B45B-C0C79175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D5C206-3BBB-4F5C-B66E-DC729C36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E86884-E7ED-40F9-A97C-C6D0B9D4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398355-FFFA-4C55-A2D3-EB62F44B5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CB6C46-E225-474E-B6DA-780CCA645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A26BB8-C23C-4FF7-BAE4-F9EED5B7D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9BEEE-68E5-4C15-9B5F-F7A1145CBB44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920"/>
              <a:ext cx="9092880" cy="78912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57AC8-6A56-4ADD-83EF-919CDEE6D72A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B2097-D768-4550-85C9-A64A7AFB7EF1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5BC0B-8943-402D-AA8D-289B56CF01DE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50E7F-6534-40AA-BDB4-4F5ACFC0F205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CB5BE-9F9E-496F-8B67-7CBDA9ED8B92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BDDD3-B1FE-4C74-9A6F-DE97BFDBBAB2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C8B89-FBFB-4620-8E89-1D78B954503E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20.gif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aecd"/>
                </a:solidFill>
                <a:latin typeface="Times New Roman"/>
                <a:ea typeface="Times New Roman"/>
              </a:rPr>
              <a:t>Совершенствование средств хранения, передачи и обработки информаци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0680"/>
            <a:ext cx="8229600" cy="18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Lucida Sans Unicode"/>
              </a:rPr>
              <a:t>«Глядя на мир, нельзя  не </a:t>
            </a:r>
            <a:r>
              <a:rPr b="1" lang="ru-RU" sz="3600" spc="-1" strike="noStrike">
                <a:solidFill>
                  <a:srgbClr val="ff0000"/>
                </a:solidFill>
                <a:latin typeface="Lucida Sans Unicode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Lucida Sans Unicode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Lucida Sans Unicode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Lucida Sans Unicode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Lucida Sans Unicode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Lucida Sans Unicode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Lucida Sans Unicode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Lucida Sans Unicode"/>
              </a:rPr>
              <a:t>удивляться!»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Заголовок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4" name="Object 6"/>
          <p:cNvGraphicFramePr/>
          <p:nvPr/>
        </p:nvGraphicFramePr>
        <p:xfrm>
          <a:off x="500040" y="3571920"/>
          <a:ext cx="2594160" cy="2085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5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0040" y="3571920"/>
                    <a:ext cx="2594160" cy="20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6" name="Стрелка вправо с вырезом 5"/>
          <p:cNvSpPr/>
          <p:nvPr/>
        </p:nvSpPr>
        <p:spPr>
          <a:xfrm>
            <a:off x="3429000" y="4286160"/>
            <a:ext cx="1785960" cy="714600"/>
          </a:xfrm>
          <a:custGeom>
            <a:avLst/>
            <a:gdLst>
              <a:gd name="textAreaLeft" fmla="*/ 178560 w 1785960"/>
              <a:gd name="textAreaRight" fmla="*/ 1607400 w 1785960"/>
              <a:gd name="textAreaTop" fmla="*/ 178560 h 714600"/>
              <a:gd name="textAreaBottom" fmla="*/ 536040 h 714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280" y="5400"/>
                </a:lnTo>
                <a:lnTo>
                  <a:pt x="17280" y="0"/>
                </a:lnTo>
                <a:lnTo>
                  <a:pt x="21600" y="10800"/>
                </a:lnTo>
                <a:lnTo>
                  <a:pt x="17280" y="21600"/>
                </a:lnTo>
                <a:lnTo>
                  <a:pt x="17280" y="16200"/>
                </a:lnTo>
                <a:lnTo>
                  <a:pt x="0" y="16200"/>
                </a:lnTo>
                <a:lnTo>
                  <a:pt x="216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206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5" descr=""/>
          <p:cNvPicPr/>
          <p:nvPr/>
        </p:nvPicPr>
        <p:blipFill>
          <a:blip r:embed="rId4"/>
          <a:stretch/>
        </p:blipFill>
        <p:spPr>
          <a:xfrm>
            <a:off x="5572080" y="3786120"/>
            <a:ext cx="2786040" cy="23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AutoShape 4"/>
          <p:cNvSpPr/>
          <p:nvPr/>
        </p:nvSpPr>
        <p:spPr>
          <a:xfrm>
            <a:off x="380880" y="380880"/>
            <a:ext cx="8610840" cy="2057400"/>
          </a:xfrm>
          <a:prstGeom prst="horizontalScroll">
            <a:avLst>
              <a:gd name="adj" fmla="val 12500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def5f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ервоначально люди пользовал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лишь средствами ближней связ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5"/>
          <p:cNvSpPr/>
          <p:nvPr/>
        </p:nvSpPr>
        <p:spPr>
          <a:xfrm>
            <a:off x="838080" y="3429000"/>
            <a:ext cx="1981440" cy="9144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Реч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6"/>
          <p:cNvSpPr/>
          <p:nvPr/>
        </p:nvSpPr>
        <p:spPr>
          <a:xfrm>
            <a:off x="3733920" y="4114800"/>
            <a:ext cx="1981080" cy="9144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Слу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7"/>
          <p:cNvSpPr/>
          <p:nvPr/>
        </p:nvSpPr>
        <p:spPr>
          <a:xfrm>
            <a:off x="6781680" y="2895480"/>
            <a:ext cx="1981440" cy="9144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Зрен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8" descr="104"/>
          <p:cNvPicPr/>
          <p:nvPr/>
        </p:nvPicPr>
        <p:blipFill>
          <a:blip r:embed="rId1"/>
          <a:stretch/>
        </p:blipFill>
        <p:spPr>
          <a:xfrm>
            <a:off x="7086600" y="4572000"/>
            <a:ext cx="1523880" cy="140184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1" descr="c076[1]"/>
          <p:cNvPicPr/>
          <p:nvPr/>
        </p:nvPicPr>
        <p:blipFill>
          <a:blip r:embed="rId2"/>
          <a:stretch/>
        </p:blipFill>
        <p:spPr>
          <a:xfrm>
            <a:off x="4038480" y="2558880"/>
            <a:ext cx="1752840" cy="125100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4" descr="c078[1]"/>
          <p:cNvPicPr/>
          <p:nvPr/>
        </p:nvPicPr>
        <p:blipFill>
          <a:blip r:embed="rId3"/>
          <a:stretch/>
        </p:blipFill>
        <p:spPr>
          <a:xfrm>
            <a:off x="1371600" y="5029200"/>
            <a:ext cx="800280" cy="106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240"/>
                            </p:stCondLst>
                            <p:childTnLst>
                              <p:par>
                                <p:cTn id="1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4240"/>
                            </p:stCondLst>
                            <p:childTnLst>
                              <p:par>
                                <p:cTn id="1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624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4"/>
          <p:cNvSpPr/>
          <p:nvPr/>
        </p:nvSpPr>
        <p:spPr>
          <a:xfrm>
            <a:off x="4952880" y="990720"/>
            <a:ext cx="4038840" cy="5213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18900000" blurRad="0" rotWithShape="0">
              <a:srgbClr val="2da2b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акой гонец пробегал около полутора километров и передавал устное послание. Чтобы оно не задерживалось, он ещё издали оповещал о своем приближении, подавая звуковые сигналы голосом или трубя в ракови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5"/>
          <p:cNvSpPr/>
          <p:nvPr/>
        </p:nvSpPr>
        <p:spPr>
          <a:xfrm>
            <a:off x="1219320" y="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Comic Sans MS"/>
                <a:ea typeface="Arial"/>
              </a:rPr>
              <a:t>Почтовый курьер ин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8" descr=""/>
          <p:cNvPicPr/>
          <p:nvPr/>
        </p:nvPicPr>
        <p:blipFill>
          <a:blip r:embed="rId2"/>
          <a:stretch/>
        </p:blipFill>
        <p:spPr>
          <a:xfrm>
            <a:off x="304920" y="914400"/>
            <a:ext cx="4638600" cy="571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AutoShape 4"/>
          <p:cNvSpPr/>
          <p:nvPr/>
        </p:nvSpPr>
        <p:spPr>
          <a:xfrm>
            <a:off x="228600" y="152280"/>
            <a:ext cx="8686800" cy="2590920"/>
          </a:xfrm>
          <a:prstGeom prst="horizontalScroll">
            <a:avLst>
              <a:gd name="adj" fmla="val 12500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В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XVIII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веке возник семафорный телеграф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это тоже световая связь, но техничес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более соверше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6" descr="flag"/>
          <p:cNvPicPr/>
          <p:nvPr/>
        </p:nvPicPr>
        <p:blipFill>
          <a:blip r:embed="rId1"/>
          <a:stretch/>
        </p:blipFill>
        <p:spPr>
          <a:xfrm>
            <a:off x="533520" y="2743200"/>
            <a:ext cx="2514600" cy="35910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beac"/>
          <p:cNvPicPr/>
          <p:nvPr/>
        </p:nvPicPr>
        <p:blipFill>
          <a:blip r:embed="rId2"/>
          <a:stretch/>
        </p:blipFill>
        <p:spPr>
          <a:xfrm>
            <a:off x="6248520" y="2743200"/>
            <a:ext cx="2638440" cy="35910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0" descr="sem"/>
          <p:cNvPicPr/>
          <p:nvPr/>
        </p:nvPicPr>
        <p:blipFill>
          <a:blip r:embed="rId3"/>
          <a:stretch/>
        </p:blipFill>
        <p:spPr>
          <a:xfrm>
            <a:off x="3276720" y="2743200"/>
            <a:ext cx="2685960" cy="359100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14" descr="флажный семафор"/>
          <p:cNvPicPr/>
          <p:nvPr/>
        </p:nvPicPr>
        <p:blipFill>
          <a:blip r:embed="rId4"/>
          <a:stretch/>
        </p:blipFill>
        <p:spPr>
          <a:xfrm>
            <a:off x="533520" y="2743200"/>
            <a:ext cx="274320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4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9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5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3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7400"/>
                            </p:stCondLst>
                            <p:childTnLst>
                              <p:par>
                                <p:cTn id="5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7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94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4"/>
          <p:cNvSpPr/>
          <p:nvPr/>
        </p:nvSpPr>
        <p:spPr>
          <a:xfrm>
            <a:off x="755640" y="189000"/>
            <a:ext cx="8136000" cy="30200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53966" dir="2700000" blurRad="0" rotWithShape="0">
              <a:srgbClr val="9999ff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Очень богатым на открытия был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XIX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 век. В этом веке люди овладели электричеством, которое породило множество изобретений. Сначала П. Л. Шеллинг в России изобрёл электрический телеграф. А в 1837 году американец С. Морзе создал электромагнитный телеграфный аппарат и придумал специальный телеграфный код- азбуку, которая носит его и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5"/>
          <p:cNvSpPr/>
          <p:nvPr/>
        </p:nvSpPr>
        <p:spPr>
          <a:xfrm>
            <a:off x="5292720" y="3500280"/>
            <a:ext cx="3360600" cy="30200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53966" dir="2700000" blurRad="0" rotWithShape="0">
              <a:srgbClr val="9999ff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В 1876 году американец А. Белл изобрёл телефон. И наконец, в 1895 году русский изобретатель А. С. Попов открыл эпоху радиосвяз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6" descr="J0178109"/>
          <p:cNvPicPr/>
          <p:nvPr/>
        </p:nvPicPr>
        <p:blipFill>
          <a:blip r:embed="rId3"/>
          <a:stretch/>
        </p:blipFill>
        <p:spPr>
          <a:xfrm>
            <a:off x="0" y="2743200"/>
            <a:ext cx="2251080" cy="29084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7" descr="J0205378"/>
          <p:cNvPicPr/>
          <p:nvPr/>
        </p:nvPicPr>
        <p:blipFill>
          <a:blip r:embed="rId4"/>
          <a:stretch/>
        </p:blipFill>
        <p:spPr>
          <a:xfrm>
            <a:off x="2556000" y="4581360"/>
            <a:ext cx="2232000" cy="159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6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4"/>
          <p:cNvSpPr/>
          <p:nvPr/>
        </p:nvSpPr>
        <p:spPr>
          <a:xfrm>
            <a:off x="3657600" y="380880"/>
            <a:ext cx="5029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Самым замечательным изобретением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XX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века в области связи можно считать телевид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14" descr="1184555364034260004_112413e502e82d280271e07e3fc3c3d6[1]"/>
          <p:cNvPicPr/>
          <p:nvPr/>
        </p:nvPicPr>
        <p:blipFill>
          <a:blip r:embed="rId1"/>
          <a:stretch/>
        </p:blipFill>
        <p:spPr>
          <a:xfrm>
            <a:off x="304920" y="609480"/>
            <a:ext cx="3047760" cy="281304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5" descr="tv-7[1]"/>
          <p:cNvPicPr/>
          <p:nvPr/>
        </p:nvPicPr>
        <p:blipFill>
          <a:blip r:embed="rId2"/>
          <a:stretch/>
        </p:blipFill>
        <p:spPr>
          <a:xfrm>
            <a:off x="457200" y="4114800"/>
            <a:ext cx="2333520" cy="242892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7" descr="normal_0090066[1]"/>
          <p:cNvPicPr/>
          <p:nvPr/>
        </p:nvPicPr>
        <p:blipFill>
          <a:blip r:embed="rId3"/>
          <a:stretch/>
        </p:blipFill>
        <p:spPr>
          <a:xfrm>
            <a:off x="3200400" y="4114800"/>
            <a:ext cx="2514600" cy="252396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22" descr="i[17]"/>
          <p:cNvPicPr/>
          <p:nvPr/>
        </p:nvPicPr>
        <p:blipFill>
          <a:blip r:embed="rId4"/>
          <a:stretch/>
        </p:blipFill>
        <p:spPr>
          <a:xfrm>
            <a:off x="6095880" y="4114800"/>
            <a:ext cx="2743200" cy="251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96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346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396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446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 Box 4"/>
          <p:cNvSpPr/>
          <p:nvPr/>
        </p:nvSpPr>
        <p:spPr>
          <a:xfrm>
            <a:off x="5029200" y="685800"/>
            <a:ext cx="4114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Освоение космоса привело к созданию спутниковой связ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7" descr="J0200289"/>
          <p:cNvPicPr/>
          <p:nvPr/>
        </p:nvPicPr>
        <p:blipFill>
          <a:blip r:embed="rId1"/>
          <a:stretch/>
        </p:blipFill>
        <p:spPr>
          <a:xfrm>
            <a:off x="5486400" y="3809880"/>
            <a:ext cx="2684520" cy="30481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11" descr="satellite_communications[1]"/>
          <p:cNvPicPr/>
          <p:nvPr/>
        </p:nvPicPr>
        <p:blipFill>
          <a:blip r:embed="rId2"/>
          <a:stretch/>
        </p:blipFill>
        <p:spPr>
          <a:xfrm>
            <a:off x="0" y="3449520"/>
            <a:ext cx="4648320" cy="340848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12" descr="1186477703_55740[1]"/>
          <p:cNvPicPr/>
          <p:nvPr/>
        </p:nvPicPr>
        <p:blipFill>
          <a:blip r:embed="rId3"/>
          <a:stretch/>
        </p:blipFill>
        <p:spPr>
          <a:xfrm>
            <a:off x="0" y="0"/>
            <a:ext cx="464832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920"/>
                            </p:stCondLst>
                            <p:childTnLst>
                              <p:par>
                                <p:cTn id="11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8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3920"/>
                            </p:stCondLst>
                            <p:childTnLst>
                              <p:par>
                                <p:cTn id="12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2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9:54:23Z</dcterms:created>
  <dc:creator>Valued Acer Customer</dc:creator>
  <dc:description/>
  <dc:language>en-US</dc:language>
  <cp:lastModifiedBy>Слушатель</cp:lastModifiedBy>
  <dcterms:modified xsi:type="dcterms:W3CDTF">2015-06-23T08:00:53Z</dcterms:modified>
  <cp:revision>12</cp:revision>
  <dc:subject/>
  <dc:title>Предистория  информатики</dc:title>
</cp:coreProperties>
</file>